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5842-4D95-4FB8-89D7-5A6AC468A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C9D4-6E6C-48DD-892C-4F621AFBD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B367-3A20-43F5-887C-4F10EE247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0D31-C115-48A2-ABBA-E778C8C47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FAF4-946F-457D-A95B-44A03BF9C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7C77-F543-4C66-9DDE-F1BC34D3C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28E0-5CF6-468E-B0F4-ED3AA7788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E0D8-6D25-44E2-9E3E-B28843419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96C3-35B7-47BE-816A-125636E02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33F4-1536-4C84-AC98-5BCFAB12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9BE5-EC57-4122-94C5-7A5834A4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D0D8-55DB-4D4E-A012-4D815337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14CC0-7E39-487E-A094-3A3B1EAB2D6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My Documents\My Pictures\hidro\logo.gif"/>
          <p:cNvPicPr/>
          <p:nvPr/>
        </p:nvPicPr>
        <p:blipFill>
          <a:blip r:embed="rId1"/>
          <a:stretch/>
        </p:blipFill>
        <p:spPr>
          <a:xfrm>
            <a:off x="2514600" y="0"/>
            <a:ext cx="4044960" cy="5638680"/>
          </a:xfrm>
          <a:prstGeom prst="rect">
            <a:avLst/>
          </a:prstGeom>
          <a:ln w="0">
            <a:noFill/>
          </a:ln>
        </p:spPr>
      </p:pic>
      <p:sp>
        <p:nvSpPr>
          <p:cNvPr id="42" name="WordArt 3"/>
          <p:cNvSpPr txBox="1"/>
          <p:nvPr/>
        </p:nvSpPr>
        <p:spPr>
          <a:xfrm>
            <a:off x="1295280" y="5334120"/>
            <a:ext cx="64008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HIDROPONIA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2"/>
          <p:cNvSpPr txBox="1"/>
          <p:nvPr/>
        </p:nvSpPr>
        <p:spPr>
          <a:xfrm>
            <a:off x="1771560" y="31680"/>
            <a:ext cx="546732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Cómo crecen las planta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76320" y="1828800"/>
            <a:ext cx="9144000" cy="50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plantas se desarrollan porque reciben una nutrición óptima y condiciones ideal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utilización de agua y fertilizantes químicos para nutrir las plantas.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asegurar un buen crecimiento todas las plantas requieren 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ua, luz, aire, sales minerales y sustentación para las raíce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esitan absorber una parte de los elementos nutritivos de los gases atmosférico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rescindible proveer otro medio de sustentación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WINDOWS\Application Data\Microsoft\Media Catalog\09554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WordArt 2"/>
          <p:cNvSpPr txBox="1"/>
          <p:nvPr/>
        </p:nvSpPr>
        <p:spPr>
          <a:xfrm>
            <a:off x="2152800" y="152280"/>
            <a:ext cx="47815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Recipientes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0" y="1517760"/>
            <a:ext cx="914400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cm de profundida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erial plástico, ladrillo o cement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al deben pintarse con barniz o pintur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era deben forrarse con tela impermeable o plástica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o máximo debe ser de 6 metros y el ancho máximo de 90 cm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aciones en su base (Tapone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as que competirán por los nutrientes, el oxígeno y alteran el pH de la solució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erte químicamente para evitar reacciones o cambios en la solución nutritiva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WINDOWS\Application Data\Microsoft\Media Catalog\stand-cl-up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:\WINDOWS\Application Data\Microsoft\Media Catalog\foto2.jpg"/>
          <p:cNvPicPr/>
          <p:nvPr/>
        </p:nvPicPr>
        <p:blipFill>
          <a:blip r:embed="rId1"/>
          <a:stretch/>
        </p:blipFill>
        <p:spPr>
          <a:xfrm>
            <a:off x="-152280" y="25560"/>
            <a:ext cx="967716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2"/>
          <p:cNvSpPr txBox="1"/>
          <p:nvPr/>
        </p:nvSpPr>
        <p:spPr>
          <a:xfrm>
            <a:off x="2666880" y="76320"/>
            <a:ext cx="37339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l Sustrato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0" y="1066680"/>
            <a:ext cx="9144000" cy="56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trato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edio sólido inerte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clar y aferrar las raíces protegiéndolas de la luz y permitiéndoles respirar y por otro lado, contener el agua y los nutrientes que las plantas necesitan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gránulos componentes del sustrato deben permitir la circulación del aire y de la solución nutritiva. </a:t>
            </a: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2"/>
          <p:cNvSpPr txBox="1"/>
          <p:nvPr/>
        </p:nvSpPr>
        <p:spPr>
          <a:xfrm>
            <a:off x="2666880" y="76320"/>
            <a:ext cx="37339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l Sustrato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52280" y="1066680"/>
            <a:ext cx="45720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Retención de humedad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ermitir buena aireación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stable físicament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Químicamente inert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Biológicamente inerte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Tener buen drenaj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Tener capilaridad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er liviano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er de bajo costo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r disponible.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962520" y="923760"/>
            <a:ext cx="5486400" cy="60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carilla de arroz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n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v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iduos de hornos y caldera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edra pómez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errines y viruta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drillos y tejas molidas (libres de elementos calcáreos o cemento),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puma de poliestireno (utilizada casi únicamente para aligerar el peso de otros sustratos.) 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miculita.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WINDOWS\Application Data\Microsoft\Media Catalog\11111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2"/>
          <p:cNvSpPr txBox="1"/>
          <p:nvPr/>
        </p:nvSpPr>
        <p:spPr>
          <a:xfrm>
            <a:off x="3048120" y="114480"/>
            <a:ext cx="32004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l Agua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0" y="968400"/>
            <a:ext cx="9144000" cy="68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umo humano o de animales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aguas con gran contenido de sal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aguas "duras" que contienen concentraciones de calcio</a:t>
            </a:r>
            <a:r>
              <a:rPr b="1" lang="es-E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s-E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ua Contaminada: D</a:t>
            </a:r>
            <a:r>
              <a:rPr b="1" lang="es-E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infección más utilizado y el más barato (hipoclorito de sodio o de calcio, 2 a 5 partes por millón de Cloro)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WordArt 2"/>
          <p:cNvSpPr txBox="1"/>
          <p:nvPr/>
        </p:nvSpPr>
        <p:spPr>
          <a:xfrm>
            <a:off x="2590920" y="76320"/>
            <a:ext cx="3971880" cy="14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a Nutrición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0" y="1600200"/>
            <a:ext cx="9144000" cy="49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bono, Hidrógeno, Oxígeno, Nitrógeno, Fósforo, Potasio, Calcio, Azufre, Magnesio (macronutrientes) y Hierro, Manganeso, Boro, Zinc, Cobre, Molibdeno, Cobalto y Cloro (micronutrientes)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fórmula más sencilla para iniciarse es la siguiente 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- </a:t>
            </a:r>
            <a:r>
              <a:rPr b="1" lang="es-E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Nitrato de calcio.....................118 g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- </a:t>
            </a:r>
            <a:r>
              <a:rPr b="1" lang="es-E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Sulfato de Magnesio................... 49 g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- </a:t>
            </a:r>
            <a:r>
              <a:rPr b="1" lang="es-E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Fosfato Monopotásico.................  29 gr.</a:t>
            </a:r>
            <a:br>
              <a:rPr sz="2400"/>
            </a:br>
            <a:r>
              <a:rPr b="1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(PARA 100 LITROS DE AGUA)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1026"/>
          <p:cNvSpPr txBox="1"/>
          <p:nvPr/>
        </p:nvSpPr>
        <p:spPr>
          <a:xfrm>
            <a:off x="1143000" y="152280"/>
            <a:ext cx="7086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¿Qué es la Hidroponia?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Text Box 1027"/>
          <p:cNvSpPr/>
          <p:nvPr/>
        </p:nvSpPr>
        <p:spPr>
          <a:xfrm>
            <a:off x="304920" y="1600200"/>
            <a:ext cx="861048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iego Hydro (agua) y Ponos (labor o trabajo)</a:t>
            </a: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Hidroponia es una ciencia nueva que estudia los cultivos sin tierra. 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chos de los métodos Hidropónico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WINDOWS\Application Data\Microsoft\Media Catalog\Cal-Nitrate-bo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WordArt 2"/>
          <p:cNvSpPr txBox="1"/>
          <p:nvPr/>
        </p:nvSpPr>
        <p:spPr>
          <a:xfrm>
            <a:off x="2948040" y="152280"/>
            <a:ext cx="2995560" cy="14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El Riego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76320" y="1487520"/>
            <a:ext cx="914400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al con regadera hasta el más sofisticado con controladores automáticos de dosificación de nutrientes, pH y programador automático de riego.</a:t>
            </a: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sistema de riego consta de un tanque para el agua y nutrientes, tuberías que conducen el agua y goteros o aspersores (emisores).</a:t>
            </a: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2"/>
          <p:cNvSpPr txBox="1"/>
          <p:nvPr/>
        </p:nvSpPr>
        <p:spPr>
          <a:xfrm>
            <a:off x="2133720" y="152280"/>
            <a:ext cx="5029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a Siembra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3" name="WordArt 3"/>
          <p:cNvSpPr txBox="1"/>
          <p:nvPr/>
        </p:nvSpPr>
        <p:spPr>
          <a:xfrm>
            <a:off x="1905120" y="2209680"/>
            <a:ext cx="56959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l Aire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4" name="WordArt 5"/>
          <p:cNvSpPr txBox="1"/>
          <p:nvPr/>
        </p:nvSpPr>
        <p:spPr>
          <a:xfrm>
            <a:off x="1981080" y="4014720"/>
            <a:ext cx="5639040" cy="20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a Temperatura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5"/>
          <p:cNvSpPr txBox="1"/>
          <p:nvPr/>
        </p:nvSpPr>
        <p:spPr>
          <a:xfrm>
            <a:off x="838080" y="1981080"/>
            <a:ext cx="701064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INVERNADERO 3D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C:\WINDOWS\Application Data\Microsoft\Media Catalog\foto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2"/>
          <p:cNvSpPr txBox="1"/>
          <p:nvPr/>
        </p:nvSpPr>
        <p:spPr>
          <a:xfrm>
            <a:off x="1533600" y="304920"/>
            <a:ext cx="6543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impieza y Mantenimiento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0" y="1523880"/>
            <a:ext cx="914400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tener el cultivo hidropónico libre de polvo y desperdicios vegetales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be verificar regularmente las condiciones del agregado , controlar la humedad y observar el vigor con que crecen las plantas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e debe olvidar el control de la luz y la temperatura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muy útil registrar las fechas de siembra y cosecha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transplante y la poda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pués de la cosecha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609480" y="380880"/>
            <a:ext cx="7467840" cy="609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XPERIMENTO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2"/>
          <p:cNvSpPr txBox="1"/>
          <p:nvPr/>
        </p:nvSpPr>
        <p:spPr>
          <a:xfrm>
            <a:off x="685800" y="1600200"/>
            <a:ext cx="76960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ONCLUSION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0" y="0"/>
            <a:ext cx="9144000" cy="67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BLIOGRAFÍAS: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geocities.com/CollegePark/Dorm/7635/Hidroponia/elem.htm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members.nbci.com/asarapi/cool.htm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nalejandria.com/01/bialik/h/hidroponia/hidropo.ht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hydroponicsonline.com/bottles.htm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0" y="1295280"/>
            <a:ext cx="89154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GRACIAS!!!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2"/>
          <p:cNvSpPr txBox="1"/>
          <p:nvPr/>
        </p:nvSpPr>
        <p:spPr>
          <a:xfrm>
            <a:off x="1085760" y="0"/>
            <a:ext cx="683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ultivo de plantas sin suelo  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304920" y="1371600"/>
            <a:ext cx="8534160" cy="53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Hidroponia es un sistema eficiente para producir verduras, frutas, flores, hierbas aromáticas, ornamentales de excelente calidad en espacios reducidos sin alterar, ni agredir el medio ambiente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el cultivo de plantas en un medio acuoso recibiendo los nutrientes minerales que necesitan para crecer de sales disueltas en el agua de riego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WINDOWS\Application Data\Microsoft\Media Catalog\elems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3"/>
          <p:cNvSpPr txBox="1"/>
          <p:nvPr/>
        </p:nvSpPr>
        <p:spPr>
          <a:xfrm>
            <a:off x="380880" y="152280"/>
            <a:ext cx="8229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Ventajas de la Hidroponia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-380880" y="609480"/>
            <a:ext cx="9144000" cy="64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Balance ideal de aire, agua y nutrientes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Humedad uniforme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Excelente drenaje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Permite una mayor densidad de población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Se puede corregir fácil y rápidamente la deficiencia o el exceso de un nutrimento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Perfecto control del pH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No depende tanto de los fenómenos metereológicos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Más altos rendimientos por unidad de superficie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Mayro calidad del producto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Mayor precocidad en los cultivos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Posibilidad de cultivar repetidamente la misma especie de planta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Posibilidad de varias cosechas al año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Uniformidad en los cultivos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Se requiere mucho menor cantidad de espacio para producir el mismo rendimiento del suelo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Gran ahorro en el consumo de agua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Reducción de los costos de producción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Proporciona excelentes condiciones para semillero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Se puede utilizar agua con alto contenido de sales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Mayor limpieza e higiene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Posibilidad de enriquecer los productos alimenticios con sustancias como vitaminas o minerales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Se reduce en gran medida la contaminación del medio ambiente y de los riesgos de erosión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Casi no hay gasto en maquinaria agrícola ya que no se requiere de tractor, arado u otros implementos semejantes.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La recuperación de lo invertido es rápida.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2"/>
          <p:cNvSpPr txBox="1"/>
          <p:nvPr/>
        </p:nvSpPr>
        <p:spPr>
          <a:xfrm>
            <a:off x="228600" y="76320"/>
            <a:ext cx="8610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esventajas de la Hidroponia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0" y="228600"/>
            <a:ext cx="914400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Requiere para su manejo a nivel comercial de conocimiento técnico combinado con la comprensión de los principios de filosofía vegetal y de química orgánica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A nivel comercial el gasto inicial es relativamente alto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Se requiere cuidado con los detalles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Se necesita conocer y manejar la especie que se cultive en el sistema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Requiere de un abastecimiento continuo de agua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2"/>
          <p:cNvSpPr txBox="1"/>
          <p:nvPr/>
        </p:nvSpPr>
        <p:spPr>
          <a:xfrm>
            <a:off x="942840" y="76320"/>
            <a:ext cx="725832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Importancia de la Hidroponia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76320" y="650880"/>
            <a:ext cx="914400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Para producir alimentos en las zonas árida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Para producir en regiones tropicales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Para producir bajo condiciones de clima templado y frio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Para producir en lugares donde el agua tiene un alto contenido en sal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Para producir en aquellos lugares en donde la agricultura no es posible debido a limitantes de suelo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Para producir hortalizas en las ciudades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Para producir hortalizas donde son caras y escasas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Para producir flores y plantas ornamental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realizar investigaciones ecológicas</a:t>
            </a:r>
            <a:r>
              <a:rPr b="1" lang="es-E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WINDOWS\Application Data\Microsoft\Media Catalog\foto4.jpg"/>
          <p:cNvPicPr/>
          <p:nvPr/>
        </p:nvPicPr>
        <p:blipFill>
          <a:blip r:embed="rId1"/>
          <a:stretch/>
        </p:blipFill>
        <p:spPr>
          <a:xfrm>
            <a:off x="2471760" y="0"/>
            <a:ext cx="420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2"/>
          <p:cNvSpPr txBox="1"/>
          <p:nvPr/>
        </p:nvSpPr>
        <p:spPr>
          <a:xfrm>
            <a:off x="457200" y="7632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endimiento de dos sistemas de cultivo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0" y="138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0" y="1384200"/>
            <a:ext cx="9144000" cy="15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140328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LTIVO                RENDIMIENTO MEDIO           RENDIMIENTO MEDI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                            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SUELO                              EN HIDROPONI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                       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od/ha/cosecha)                               (tod/ha/cosecha)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0" y="24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0" y="2411280"/>
            <a:ext cx="9144000" cy="15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0" y="2430360"/>
            <a:ext cx="914400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Jitomate                         30  -  40                                         100  -  200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epino                           10  -  30                                         100  -  200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Zanahoria                       15  -  20                                          55  -    75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Remolacha                          56                                                   105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apa                              20  -  40                                               120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hile                              20  -  30                                          60  -    8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MATA</dc:creator>
  <dc:description/>
  <dc:language>en-US</dc:language>
  <cp:lastModifiedBy>cingacio bajo</cp:lastModifiedBy>
  <dcterms:modified xsi:type="dcterms:W3CDTF">2013-03-18T19:31:36Z</dcterms:modified>
  <cp:revision>3</cp:revision>
  <dc:subject/>
  <dc:title>Presentación de PowerPoint</dc:title>
</cp:coreProperties>
</file>